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99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799"/>
              </a:spcBef>
              <a:buClr>
                <a:srgbClr val="b10050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1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572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76560" y="3467160"/>
            <a:ext cx="497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awrence Hunter, Ph.D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"/>
              </a:rPr>
              <a:t>Director, Computational Bioscience Progra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"/>
              </a:rPr>
              <a:t>University of Colorado School of Medicin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828800" y="4952880"/>
            <a:ext cx="133524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55960" y="5486400"/>
            <a:ext cx="37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9c56"/>
                </a:solidFill>
                <a:latin typeface="Gill Sans"/>
              </a:rPr>
              <a:t>Larry.Hunter@uchsc.edu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9b20"/>
                </a:solidFill>
                <a:latin typeface="Gill Sans"/>
              </a:rPr>
              <a:t>http://compbio.uchsc.edu/Hunt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248520" y="3505320"/>
            <a:ext cx="1371600" cy="1334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14400" algn="ctr">
              <a:spcBef>
                <a:spcPts val="601"/>
              </a:spcBef>
              <a:buClr>
                <a:srgbClr val="b10050"/>
              </a:buClr>
              <a:buSzPct val="150000"/>
              <a:buFont typeface="Gill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videncescience.org/content/Science.doc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Epistemic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 like the subclass vers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idence type (as defined in the ECO) is realist only through cognitive states, e.g. whose inference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otential subclasses taken from current GO evidence class use, e.g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s_supported_by_(evidence_from)_direct_ass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s_supported_by_inference_of_cur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 with possible revision of GO evidence codes (projecting out manually review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pistem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pistemology: how do we know things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cf ontology: what exists?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pistemic relations link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ea9b20"/>
                </a:solidFill>
                <a:latin typeface="Gill Sans"/>
              </a:rPr>
              <a:t>Proposi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statements that can be true or false, AKA “asserted sentences”)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</a:t>
            </a:r>
            <a:r>
              <a:rPr b="0" lang="en-US" sz="2800" spc="-1" strike="noStrike">
                <a:solidFill>
                  <a:srgbClr val="ea9b20"/>
                </a:solidFill>
                <a:latin typeface="Gill Sans"/>
              </a:rPr>
              <a:t> evidence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something that bears on their truth or falsity)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obably all instance-level rel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sensus (of RO lis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stance-level epistemic relation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9b20"/>
                </a:solidFill>
                <a:latin typeface="Gill Sans"/>
              </a:rPr>
              <a:t>Suppor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idence E RO:supports proposition P iff E can be linked by inference to establishing that P is tru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9b20"/>
                </a:solidFill>
                <a:latin typeface="Gill Sans"/>
              </a:rPr>
              <a:t>Is_supported_b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s the OWL:inverse-of </a:t>
            </a:r>
            <a:r>
              <a:rPr b="0" lang="en-US" sz="2800" spc="-1" strike="noStrike">
                <a:solidFill>
                  <a:srgbClr val="ea9b20"/>
                </a:solidFill>
                <a:latin typeface="Gill Sans"/>
              </a:rPr>
              <a:t>suppo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9b20"/>
                </a:solidFill>
                <a:latin typeface="Gill Sans"/>
              </a:rPr>
              <a:t>Contrad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idence E RO:contradicts proposition P iff E can be linked by inference to establishing that P is fals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9b20"/>
                </a:solidFill>
                <a:latin typeface="Gill Sans"/>
              </a:rPr>
              <a:t>Is_contradicted_b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s the OWL:inverse-of </a:t>
            </a:r>
            <a:r>
              <a:rPr b="0" lang="en-US" sz="2800" spc="-1" strike="noStrike">
                <a:solidFill>
                  <a:srgbClr val="ea9b20"/>
                </a:solidFill>
                <a:latin typeface="Gill Sans"/>
              </a:rPr>
              <a:t>contradi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clear if class-level relation is necessar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omain and Rang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range of </a:t>
            </a:r>
            <a:r>
              <a:rPr b="0" lang="en-US" sz="2800" spc="-1" strike="noStrike">
                <a:solidFill>
                  <a:srgbClr val="ea9b20"/>
                </a:solidFill>
                <a:latin typeface="Gill Sans"/>
              </a:rPr>
              <a:t>suppor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s clear: proposi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domain is more complicated: what can (or can’t) count as evidenc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arge literature, mostly related to law, e.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chum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Thoughts about a science of evid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ea9b20"/>
                </a:solidFill>
                <a:uFillTx/>
                <a:latin typeface="Gill Sans"/>
                <a:hlinkClick r:id="rId1"/>
              </a:rPr>
              <a:t>http://www.evidencescience.org/content/Science.do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derson,Schum &amp; Twining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Analysis of Evid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2nd ed. Cambridge U. Press 200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 the legal world, evidence is either testimony or a physical entity (exhibit) under the supervision of a cour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cientific evidenc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the same as legal evidence (no courts!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5360" indent="-31536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itional help from scientific culture: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er review is an essential aspect of scienc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cientific evidence must be capable of  being communicated to other scientist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ret information can’t be scientific evi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5360" indent="-31536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ically, </a:t>
            </a:r>
            <a:r>
              <a:rPr b="0" lang="en-US" sz="3200" spc="-1" strike="noStrike">
                <a:solidFill>
                  <a:srgbClr val="ea9b20"/>
                </a:solidFill>
                <a:latin typeface="Gill Sans"/>
              </a:rPr>
              <a:t>information entiti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what can be communicated, hence the domain of </a:t>
            </a:r>
            <a:r>
              <a:rPr b="0" lang="en-US" sz="3200" spc="-1" strike="noStrike">
                <a:solidFill>
                  <a:srgbClr val="ea9b20"/>
                </a:solidFill>
                <a:latin typeface="Gill Sans"/>
              </a:rPr>
              <a:t>support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, least in a scientific context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hat is an information entity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I uses DENRIE (“Digital Entity and Non-Realizable Information Entity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ntative definition: "An information entity is a generically dependent continuant that always originates with a sentient - either by a person perceiving, thinking, and communicating, or by a machine that was designed to have a function to produce and/or communicate information."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ubsumes, e.g. instrument readouts and publication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formation Entity Ontology meeting next month is to address this (and generalize, e.g. to softwar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n wait for an exact definition; whatever the result, it (or a subclass) is clearly the domain of </a:t>
            </a:r>
            <a:r>
              <a:rPr b="0" lang="en-US" sz="2800" spc="-1" strike="noStrike">
                <a:solidFill>
                  <a:srgbClr val="ea9b20"/>
                </a:solidFill>
                <a:latin typeface="Gill Sans"/>
              </a:rPr>
              <a:t>suppor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AF use ca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annotation files (GAF) contain all asserted links between gene (products) and GO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spcBef>
                <a:spcPts val="700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ly a database format, with three epistemic columns </a:t>
            </a:r>
            <a:r>
              <a:rPr b="0" lang="en-US" sz="2800" spc="-1" strike="noStrike">
                <a:solidFill>
                  <a:srgbClr val="ea9b20"/>
                </a:solidFill>
                <a:latin typeface="Gill Sans"/>
              </a:rPr>
              <a:t>DB:reference, qualifi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&amp; </a:t>
            </a:r>
            <a:r>
              <a:rPr b="0" lang="en-US" sz="2800" spc="-1" strike="noStrike">
                <a:solidFill>
                  <a:srgbClr val="ea9b20"/>
                </a:solidFill>
                <a:latin typeface="Gill Sans"/>
              </a:rPr>
              <a:t>evidence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B:Reference is a pointer to a database entry in a model organism database or a publication (identified by PMID) that supports the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idence code is a term that describes the relation of the assertion to the reference (e.g. “Inferred by direct assay” or “inferred through electronic analysis”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Quantifier is overloaded, but includes “NOT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odeling GAF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B:Reference is the evidence for the asser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&lt;assertion&gt; is_supported_by &lt;DB:Reference&gt;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quantifier flips evidence, not asser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&lt;assertion&gt; is_contradicted_by &lt;DB:Reference&gt;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at about evidence code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vidence can play multiple ro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ingle piece of evidence can support two (or more) assertions in different way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ample: PMID-X provides </a:t>
            </a:r>
            <a:r>
              <a:rPr b="0" lang="en-US" sz="2400" spc="-1" strike="noStrike">
                <a:solidFill>
                  <a:srgbClr val="ea9b20"/>
                </a:solidFill>
                <a:latin typeface="Gill Sans"/>
              </a:rPr>
              <a:t>inferred by direct assay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evidence that GeneY has-function “RNA polymerase II transcription factor activity” and the same information entity also provides </a:t>
            </a:r>
            <a:r>
              <a:rPr b="0" lang="en-US" sz="2400" spc="-1" strike="noStrike">
                <a:solidFill>
                  <a:srgbClr val="ea9b20"/>
                </a:solidFill>
                <a:latin typeface="Gill Sans"/>
              </a:rPr>
              <a:t>inferred by curator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evidence the gene has-location nucleu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149c56"/>
              </a:buClr>
              <a:buSzPct val="150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choices: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ubclass binary </a:t>
            </a:r>
            <a:r>
              <a:rPr b="0" lang="en-US" sz="2400" spc="-1" strike="noStrike">
                <a:solidFill>
                  <a:srgbClr val="ea9b20"/>
                </a:solidFill>
                <a:latin typeface="Gill Sans"/>
              </a:rPr>
              <a:t>support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e.g. </a:t>
            </a:r>
            <a:r>
              <a:rPr b="0" lang="en-US" sz="2400" spc="-1" strike="noStrike">
                <a:solidFill>
                  <a:srgbClr val="ea9b20"/>
                </a:solidFill>
                <a:latin typeface="Gill Sans"/>
              </a:rPr>
              <a:t>supports_by_direct_ass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ke </a:t>
            </a:r>
            <a:r>
              <a:rPr b="0" lang="en-US" sz="2400" spc="-1" strike="noStrike">
                <a:solidFill>
                  <a:srgbClr val="ea9b20"/>
                </a:solidFill>
                <a:latin typeface="Gill Sans"/>
              </a:rPr>
              <a:t>support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ernary relation, e.g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2400" spc="-1" strike="noStrike">
                <a:solidFill>
                  <a:srgbClr val="ea9b20"/>
                </a:solidFill>
                <a:latin typeface="Gill Sans"/>
              </a:rPr>
              <a:t>support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&lt;</a:t>
            </a:r>
            <a:r>
              <a:rPr b="0" lang="en-US" sz="2400" spc="-1" strike="noStrike">
                <a:solidFill>
                  <a:srgbClr val="ea9b20"/>
                </a:solidFill>
                <a:latin typeface="Gill Sans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 &lt;</a:t>
            </a:r>
            <a:r>
              <a:rPr b="0" lang="en-US" sz="2400" spc="-1" strike="noStrike">
                <a:solidFill>
                  <a:srgbClr val="ea9b20"/>
                </a:solidFill>
                <a:latin typeface="Gill Sans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 &lt;</a:t>
            </a:r>
            <a:r>
              <a:rPr b="0" lang="en-US" sz="2400" spc="-1" strike="noStrike">
                <a:solidFill>
                  <a:srgbClr val="ea9b20"/>
                </a:solidFill>
                <a:latin typeface="Gill Sans"/>
              </a:rPr>
              <a:t>evidence typ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5194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[</a:t>
            </a:r>
            <a:r>
              <a:rPr b="0" lang="en-US" sz="2400" spc="-1" strike="noStrike">
                <a:solidFill>
                  <a:srgbClr val="b10050"/>
                </a:solidFill>
                <a:latin typeface="Gill Sans"/>
              </a:rPr>
              <a:t>PMID-X as an instance of evidence type doesn’t work since we have to match the support to the evidence typ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.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7:36:34Z</dcterms:created>
  <dc:creator>Larry Hunter</dc:creator>
  <dc:description/>
  <dc:language>en-US</dc:language>
  <cp:lastModifiedBy>Larry Hunter</cp:lastModifiedBy>
  <cp:lastPrinted>2008-03-17T23:09:36Z</cp:lastPrinted>
  <dcterms:modified xsi:type="dcterms:W3CDTF">2008-05-20T16:03:06Z</dcterms:modified>
  <cp:revision>31</cp:revision>
  <dc:subject/>
  <dc:title>Automated aides  to scientific discovery</dc:title>
</cp:coreProperties>
</file>